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70A4-C77A-40EE-B2B4-D6F9D4858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5C1A-CEF3-4C5E-8C7C-93D38003C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hoolbag.info/chemistry/mcat_biochemistry/4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748E-7B12-4BA8-9C21-BC7A8B9F3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201A-BCF2-4580-B687-9B437B70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2C404-BA39-4434-ABEB-857F6D321487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F56DC-1D5D-4776-81EC-1941FF5BE517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24E-459B-47B5-AFC5-E3E53782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76254-28E9-4593-8214-61D36DC417C3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E1833-F16D-4CAF-A345-ED87AE59A7F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4B13-4023-45D5-A085-F37C664D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BD089-7FBC-4289-AA11-7977B47B399E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7678F-08CF-4009-9568-902B1366135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88A5-57D0-4887-A765-893F31EE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chemistry.about.com/b/2010/11/09/osmotic-pressure-and-tonicity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6080-67EF-4463-A9A9-4B31AC936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esu7.org/~lweb/Lakeview/science/sea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E400-5448-4DDC-8E3A-46B7AFDD8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5A468-2DED-4C81-B0F4-B431818F2949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9D049-B728-43E2-8956-6591FD9A59B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A4A6-EBDB-427C-96A7-F4ABC9352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6449-54F3-45F9-BC8E-D916FA4CC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D942-D85C-4912-BB2A-0D81D58C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thebasisoflife.wikispaces.com/Membrane+Structure+and+Functio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50C7-F116-4C63-A14E-0CCB21CB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2DFB-0078-4B40-8C9B-7A9C3C67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1D70-DD1A-4E4F-B3F0-2E9D13C1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aviddarling.info/encyclopedia/A/active_transpor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0484-FDB7-4A5B-B57E-640DDFA24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pbrwww5.apsu.edu/thompsonj/Anatomy%20&amp;%20Physiology/2010/2010%20Exam%20Reviews/Exam%201%20Review/Ch03%20Active%20Transpor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1FB4-DBDD-4A73-932E-7C5EE948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B704-FEC3-416B-A360-8C75C38B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entsimmons.uwinnipeg.ca/cm1504/membranefunction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7976-CBBB-41B3-9212-6C4C5C055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library.thinkquest.org/C004535/molecule_transport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1E80-55AC-48AA-8EE0-9D6EE7EE1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9303-CC14-412B-8739-B3B1D6779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43BB-CD45-40BA-8301-E9BA1C02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rditobook.pbworks.com/w/page/11348839/Diffusio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4alevel.blogspot.ca/2014/09/25-passive-and-active-transport-acro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on-polar molecules (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teroid hormones, some drugs) and small polar molecules 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, glycer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6501-5837-4AC5-9423-B2539C998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F629-3B49-4B25-BD70-9D7E3D5F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biology4alevel.blogspot.ca/2014/09/25-passive-and-active-transport-across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7D73-ABDD-4C87-A97A-E23C3B919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quora.com/How-do-carrier-proteins-transport-specific-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6AB-66E5-4D7A-8D8E-2BE2A463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6847-D194-4162-B3AB-DE365374B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4B4-041D-4A9C-8E1D-C8BC3312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4A7-CC99-40B3-B55F-D1AAE723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DCF-664A-4FA0-ABC6-B77C663A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CAB-57C9-43F9-A094-F109F67D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353-6EAD-4273-98B4-5C27FC70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766-B93E-4608-9F05-5D449064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F40-B3A2-440C-9297-C50841E9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758-83D8-47B5-8746-F430121A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4D4-ED76-440F-9D79-E56AB34D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841-5444-4B4D-BD0A-305CDBE5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DC4-6AC2-4A1F-86DC-2BB6E8F2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252-08A0-4AFA-BFCE-717C4483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6011-32C8-4C1F-B8E1-53CFCF8FE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Across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of osmosis changes depending on type of solution surrounding the c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574F-8511-489A-9E40-5125C09922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Is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219320" y="1447920"/>
            <a:ext cx="579096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523880" y="16002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91440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5334120" y="3657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525744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114300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cell is at 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581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03848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662940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NE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72F2-87D3-4768-94FC-7AB459753D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Hyp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295280" y="1523880"/>
            <a:ext cx="5791320" cy="403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23880" y="18288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066680" y="5867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525744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DD71-D9CD-4B44-8B4D-9D5E03C85B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Hyper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295280" y="1523880"/>
            <a:ext cx="5791320" cy="403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523880" y="18288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5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5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91440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334120" y="3657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7339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and Ton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osmotic-pressure-blood-cells"/>
          <p:cNvPicPr/>
          <p:nvPr/>
        </p:nvPicPr>
        <p:blipFill>
          <a:blip r:embed="rId1"/>
          <a:stretch/>
        </p:blipFill>
        <p:spPr>
          <a:xfrm>
            <a:off x="685800" y="2003400"/>
            <a:ext cx="7772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ells"/>
          <p:cNvPicPr/>
          <p:nvPr/>
        </p:nvPicPr>
        <p:blipFill>
          <a:blip r:embed="rId1"/>
          <a:stretch/>
        </p:blipFill>
        <p:spPr>
          <a:xfrm>
            <a:off x="685800" y="2374920"/>
            <a:ext cx="77724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1544-D469-4B90-A717-E3360F9DA2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47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611280" y="2743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06760" y="27432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783120" y="26668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34960" y="5410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887640" y="5410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554880" y="54864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this imp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-celled organism living in a  freshwater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-celled organism living in a salt-water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s of a plant in the spring after salt has been sprinkled during the w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pplic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n’t you water a plant with salt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in the grocery store get sprayed with water periodically.  What would happen if they were sprayed with salt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c8x16types-transport"/>
          <p:cNvPicPr/>
          <p:nvPr/>
        </p:nvPicPr>
        <p:blipFill>
          <a:blip r:embed="rId1"/>
          <a:stretch/>
        </p:blipFill>
        <p:spPr>
          <a:xfrm>
            <a:off x="1697040" y="1981080"/>
            <a:ext cx="57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ake of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with environment &amp;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ing entry of harmfu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is selectively perm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200280" y="-103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vement of materi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centration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ellular energy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s move positively charged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ros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chemical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ctive_transport"/>
          <p:cNvPicPr/>
          <p:nvPr/>
        </p:nvPicPr>
        <p:blipFill>
          <a:blip r:embed="rId1"/>
          <a:stretch/>
        </p:blipFill>
        <p:spPr>
          <a:xfrm>
            <a:off x="4343400" y="251460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gradient established by a primary active transport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uni-sym-antiport"/>
          <p:cNvPicPr/>
          <p:nvPr/>
        </p:nvPicPr>
        <p:blipFill>
          <a:blip r:embed="rId1"/>
          <a:stretch/>
        </p:blipFill>
        <p:spPr>
          <a:xfrm>
            <a:off x="1784520" y="3352680"/>
            <a:ext cx="5573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larger substances across a cellul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energy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cytosis &amp; endocy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Image135"/>
          <p:cNvPicPr/>
          <p:nvPr/>
        </p:nvPicPr>
        <p:blipFill>
          <a:blip r:embed="rId1"/>
          <a:stretch/>
        </p:blipFill>
        <p:spPr>
          <a:xfrm>
            <a:off x="2209680" y="1701720"/>
            <a:ext cx="45849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exocytosis"/>
          <p:cNvPicPr/>
          <p:nvPr/>
        </p:nvPicPr>
        <p:blipFill>
          <a:blip r:embed="rId1"/>
          <a:stretch/>
        </p:blipFill>
        <p:spPr>
          <a:xfrm>
            <a:off x="1949400" y="1981080"/>
            <a:ext cx="52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429000" y="2330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#10, 11, 12, and 15 taken from Powerpoint presentations created by Cheryl Massengale, educator &amp; creator of http://www.biologyjunction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vement of materials across the cell membrane without the use of chemical energy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is due to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 movement of a substance from an area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area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ntration until a stat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626px-Simple_difussion_in_cell_membrane"/>
          <p:cNvPicPr/>
          <p:nvPr/>
        </p:nvPicPr>
        <p:blipFill>
          <a:blip r:embed="rId1"/>
          <a:stretch/>
        </p:blipFill>
        <p:spPr>
          <a:xfrm>
            <a:off x="4648320" y="2824200"/>
            <a:ext cx="38098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6" descr="plant transport.png"/>
          <p:cNvPicPr/>
          <p:nvPr/>
        </p:nvPicPr>
        <p:blipFill>
          <a:blip r:embed="rId1"/>
          <a:srcRect l="-20137" t="0" r="-2013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ces move unass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non-polar molecules, small uncharged pol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molecules &amp; ions nee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lated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6" descr="cell membrane 1.png"/>
          <p:cNvPicPr/>
          <p:nvPr/>
        </p:nvPicPr>
        <p:blipFill>
          <a:blip r:embed="rId1"/>
          <a:srcRect l="0" t="-3620" r="0" b="-362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 across membrane assisted by integral membrane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nel protei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hydrophilic pathways for water &amp; ions;  ion channels are usually voltage-g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ually have 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3" descr="main-qimg-90d2bd9826c0a407e5226d2c19c3f2a5-c.jpeg"/>
          <p:cNvPicPr/>
          <p:nvPr/>
        </p:nvPicPr>
        <p:blipFill>
          <a:blip r:embed="rId1"/>
          <a:srcRect l="-4777" t="0" r="-477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usion of water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follows concentration gradient until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osmosis"/>
          <p:cNvPicPr/>
          <p:nvPr/>
        </p:nvPicPr>
        <p:blipFill>
          <a:blip r:embed="rId1"/>
          <a:stretch/>
        </p:blipFill>
        <p:spPr>
          <a:xfrm>
            <a:off x="4648320" y="2620800"/>
            <a:ext cx="3809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08:18Z</dcterms:created>
  <dc:creator>rubina khan</dc:creator>
  <dc:description/>
  <dc:language>en-US</dc:language>
  <cp:lastModifiedBy>rubina khan</cp:lastModifiedBy>
  <dcterms:modified xsi:type="dcterms:W3CDTF">2017-02-27T14:33:03Z</dcterms:modified>
  <cp:revision>215</cp:revision>
  <dc:subject/>
  <dc:title>PowerPoint Presentation</dc:title>
</cp:coreProperties>
</file>